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5E9-742E-40E9-BA6D-4EA78BF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A1F-5AE7-46A6-BE9B-1668BFB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3AC44-D4ED-4B56-9D74-666417D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95552-CF28-4AD3-B280-CF2FB1A9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1B2CE-FB6A-4C36-B8BB-EA67E94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FD9C-02B7-4655-A130-E1E6F31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61B65-B0BB-45AB-875A-A67D6CB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B61A1-DE63-4A0A-8841-AEFD51C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194FB-B19B-4BE7-9B1D-FBB7A1E8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F7594-D33B-494A-8050-EF7ECFA9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642E-583E-435C-A5AE-D519E577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21F1-0CE9-4325-9F26-5A01F105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A8C-B224-4E97-8404-305AAA62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D4B21-ACA2-42B7-BA12-65D39A2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AC906-CCFE-4791-9250-1108F6E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9F2DF-E8B4-4375-B618-09E3359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78A3E-99F8-443E-8B19-41D5D373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3742C-EBAC-4BAB-9E06-15B5B34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C0115-1C08-4732-BE5A-478938C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4BD0F-AB53-4F91-8D7C-7026C895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CDF42-B65C-47D2-815C-2784CAB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2F2A5-2489-4129-B378-F551D7F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18FDF-17DB-4005-BE32-099AE63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53F-7340-46BE-B700-4553CEC0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30DB-7A34-46BF-9325-AD28D902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3D36-3497-4F21-A81D-566F18D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8BB8-91BE-4F83-884D-2404C9A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552DD-6ECA-4E90-8EDE-CCC282E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9CE01-5626-4DA6-AFF9-234F005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F53DE-1C09-4B24-B15D-856CEA48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7B63-6F26-4975-9D24-E93766D1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A64FE-9FB8-4616-9BE8-0D7117E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1210-4F97-4A28-9E90-0C6FEE3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E82A-D3D4-4977-A9A4-8CA1B3E8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347E-5871-4E75-8A01-E6E4B9C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6A28-92DD-4C10-B918-8B11F18E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F0CFB-F400-444D-A9B7-C6C058D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829FB-F427-4209-9A49-477E96E3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650B3-E32A-4772-A063-6893985A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13304-D557-43DD-9B23-EA75111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C9683-5467-48B7-8F3C-229B537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B9B4E-2F31-4333-AAED-7DC4405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1A04F-3836-4B13-AB0D-284E43E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CA380-BCF0-472B-817A-CA114120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C8BA5-3DCB-4A1B-AF80-35F1A6A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6580-41E7-45B8-B756-38E5AC1C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CB5F-97F0-498A-9225-5A6FB0F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3B9E0-1D1C-44AB-B1B1-9C917D3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E0607-1608-44F1-9E71-4E6E334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BC650-D8C1-46A4-B60A-64A988E4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F8D6E-0ABA-45BA-B26E-B60BDAFB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4655F-A008-4BFB-ACF6-BE9FE177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71B9B-34A7-4D8B-99C4-3301669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5AA57-C0CE-4B14-A31B-C3188970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53264-0035-46C4-B03D-D9DEB419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8E2C2-CC41-45FB-B9BC-83DEF1D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D68D-172A-46AA-8D24-9571E669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3E3CF-D4BB-4B49-B666-4EA80CCD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80C97-F578-446D-9B98-17FB04F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EE544-E848-4D35-ACB6-F5BDAB5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24238-D0D0-4EFD-B872-AD212A5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1AFF3-BAB5-4E7A-9CD3-D06ED06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FE425-850C-4092-98DC-1E97494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1758B-571E-448C-A44C-FD1E42BF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95954-992B-4FAA-AB7A-72AD70B2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A0CC3-B218-486F-8DAF-BFF0F050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F3776-09E0-4B50-B4A5-CA981A1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62EB-D757-4353-9181-86961E35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86539-CB92-4049-9411-901193F4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0A313-3232-4817-8DCB-8E6D1877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438DF-E32B-4F72-BEBB-EB765EB9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9B13C-D5E8-4048-B0D4-A92A02D7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F1D3A-1758-4A54-989F-488A1A9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226A3-EB42-491B-8BFE-822F4121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6AE4B-A087-4DFC-8E40-6DA8525C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EE6AF-EF83-40F9-BB4B-0A49AEBF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F4F35-0336-453E-99ED-1B718050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7C9B1-F439-4DC6-A541-76F04A3C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D01-79C0-4B36-92E2-FA866EB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1D57B-2092-4D53-9B21-03164999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B9641-5A80-4D6A-BA9B-7E724FC0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5E589-8942-4438-8F5A-C487740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2196A-B538-4C79-83EC-9F80FC5E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BF633-D94D-4C1E-BC86-500FDB93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90343-BFE3-439A-ADA3-F921454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4E60D-E39F-439B-A581-8C1CAEB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90AF6-8190-4FF6-A456-02151D9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EBDB8-825F-4E0A-9A30-A07E623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1107B-EA73-4F49-B0E3-D09B4B6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D46C-F21F-4EA1-8F5A-E419A91D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A264F-A495-4492-982F-DFB30436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44660-9DA2-478F-AECF-554F1BB5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C67DD-49A3-400C-A59A-8B72F85F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C6D93-D737-45AC-90B0-8860251E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2BE20-9D3F-436E-969C-32C1AFC6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B5C49-D08C-41DA-98E9-9CE1E779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CC95A-9D1A-402B-A58E-CC0271A9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D31D1-0467-4E91-8F6F-48D88CAF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D9A0E-3372-4170-9C92-5859B3F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63BBD-2409-4C86-AA11-F431FD5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D14A-3D85-4AFB-AC0F-A827155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5871A-BC0F-4922-A293-7447F39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EA4B2-1711-42F7-875A-335F1591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96BF2-4C6A-4E63-82A8-8FCD2FF4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3D807-47A2-4BB5-A5C4-938D133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7B466-3C2A-43F5-9636-93BA3CD5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8FCEC-34D3-4232-B621-013CBFFC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7134D-B9D9-4363-82EF-BD27D7A3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EDB52-8976-4DCC-BE57-6411156D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FCE9E-02DA-4F67-ADC6-9A4D36B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83163-63E4-43C1-BF87-C1F6C49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361-0789-4D8E-A9A6-4C8309DF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FEDA-DE80-49E7-B42C-E300F3F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24449-03A5-4FCE-992D-66E50C88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3D81B-6C1B-4CA0-B79F-88E2E41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D21C7-4427-45EE-8F30-9598228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07BA5-C496-47D5-9F1A-C7355946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CB62D-292C-4698-9BE2-699B1CBC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CD905-7801-4384-9BA1-95E1CC14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51D4D-67C2-4A68-AFC9-0846888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04BAE-1A00-417C-89EF-C40F048F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617FE-D43A-4A21-8751-A4BB899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247C7-E38E-48EA-8319-6C0CB9D0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617-185B-40BF-8778-28DFCAE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54C5B-A577-47B7-8ACC-66C9E75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2054A-E0C6-443E-BDCC-DBD81139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9E27E-4D69-4803-95CD-F2E422D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E1CCA-942E-4B93-B116-0898AC6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3271A-E3FC-4DE7-BE70-28E9461E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F1CF5-0446-4350-BC3B-C390661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31DCC-1855-40D9-AF3B-DA739AD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FBBF5-35D4-49BB-B7DA-8B42E7D1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2992F-6831-465A-9F57-B32BA0C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11BD7-4111-4A87-8BC8-25CAE574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759E-BD42-4BC9-9A66-14CE485A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7AC08-1CF4-41E2-8AC8-8BBF3BE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0823A-FFE6-4480-AD6F-23BDC34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C0C8E-485B-4F56-BC85-514D388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3EC3E-8D84-41BB-8181-E128484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F7A12-BD5F-471A-A116-8773533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45B2E-9AC9-45F1-812B-D5A2A8B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1D226-CD7A-4C65-8DC1-DE48223C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BDB88-E127-4F8A-BA86-B98C4962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2FD68-F52C-43A0-A0A4-91D073CB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E8389-178F-4D73-A08C-C1EC48A0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4168-7F70-4D33-9A4D-38CCBBEC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DD98D-33BA-4382-B1C5-717D462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DF00B-ED94-47B3-8B27-60CCFEC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0BCDD-F4FA-4111-9944-B90F393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64E4C-9D0D-432D-84A6-8FD5141D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ADAB8-69B7-41AD-9163-ADBF90F6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2A75B-D081-4AB1-B118-39B5D5B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21E4C-F045-48B3-BD8D-B583989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044F4-7AF3-40D7-9C9F-CBC0405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14601-FB00-438A-BC3C-1DA9AD6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D9771-AAB8-4415-A088-1C8DCF36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C44-69F7-4A20-ACC4-C39C74EC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311D8-3ABF-477C-9770-EA00A621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E7531-E738-40BE-A95E-61E40892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D70E2-53E6-44F3-BDA2-715228D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18F8F-63D5-4EDA-8DF5-70A7367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14ED3-5209-4695-BB03-6E43FEC7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545FA-DFF0-403B-9CCF-150F030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707D3-73E7-459A-9846-FFC7437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71D90-0C15-48BB-9D7A-026DA65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59BC0-8359-41DE-A487-E2875E0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5FCFE-C59B-4F63-99B9-0A76C6E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A036-AA29-41D6-96F4-6A2A6693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BB74A-217D-452A-AEAF-A6FDFD9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47DC9-F2A4-44A2-B817-6FE857AD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07A33-0A32-4A3F-A7B7-AF8FAE95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C2A9-1A1E-4979-BC48-A71909D7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55A3-4549-42FE-82C2-2D5BEFAD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8527-31CA-4C8E-97AD-575F35E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73D0-54C3-4642-AB9D-8A93A90C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BFE-752B-4DAC-BABB-FDBA8B8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26E7-8CA3-49BD-ACF2-D7F37BA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EEE6-EC96-46C0-AF8C-D3C9E03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1D70-D5F5-4ED3-B8A5-49D971D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0023-D65C-4F7B-8A4C-B7AF26E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1AD9-65C5-42BE-A62B-668F98A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1D03-493A-4FED-B8D7-C86E9860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7BF5-51AC-421C-85F2-1EFCD4B8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F69FB-AF7D-4E02-B7EA-5C343981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6B24-962E-4A0D-B3F2-75C88BA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7756-90B5-45CA-BB02-7064841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CE3-6298-46BB-89CC-5EF6CC9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A75A5-BB2E-44E4-9B02-FD5A227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59AC-ED41-477B-8DF7-F7938E4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4069-58B7-40C9-8006-5377D5B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29E4-1E28-4F57-A892-D59561C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F03E-240A-4313-8692-3658AA1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8C0C-D33E-4E5B-8DD8-359020F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B9E0-6FBE-4FBA-975E-4337238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8F77-8A5B-4553-94A4-F57405B3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75E7-C7F7-400F-A7A9-2A47EC45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4AC7-CE7A-48B2-8326-C66A36C9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BF8-490F-4C0C-99ED-F25C6B75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3827-D3D7-49B6-964E-6149111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C28E-C079-47D9-ABD0-6683ABA2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E47C-AC60-42CF-A7D0-06FCE311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2A7E9-4D8C-42D0-A7EB-44BC448B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342C-76C6-4AAC-965F-834569F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8923-3431-482D-AFF1-170FE96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74F3-CDB1-4D02-B19D-A282482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1536-3812-45DC-8157-AB0C20E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8C1A-234E-447E-AF18-364DDD3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619BF-3A62-4743-8B38-32B1AB91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A9E-65C4-4A87-8AD7-CF95E9A8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57B6-E25E-4CCD-93DB-3F64A9F9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6AF6-FCB4-46F1-BC08-2EAE77D8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291D-2137-4548-A832-494F6F2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0D14-0E50-4044-94FE-6380E06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B9DA-A53C-4BA1-8731-8A7AAC8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775A-CB19-4C0F-A0D8-9D919AC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EE91-7C39-4A82-93A6-863C4A5C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B383-FE5F-4B84-9D6E-BC6291A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2448-6036-4AD6-9979-11B9640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F240-EDF9-405F-B4DB-25AC6AA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F8A-C342-4CD4-B31E-0B250C1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4626F-7B8A-4E79-B30E-3C70450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498B-A0BD-4027-852A-270963AD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66928-05E6-4301-BE95-87F3CB82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08E9-F046-429F-8760-8DFD60C7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D5A6-9415-4306-AE17-C535407E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58BCC-3FE0-45D0-9496-051AD3F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13D03-AB97-4FB3-AB58-4FC514F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A3F3B-205A-4776-A8CA-0E91AA1B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9480-E682-4B58-85A5-3175E0D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9445-5434-43FE-B691-90BEAE7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B4C-9E39-4FE4-B797-A916141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9361-C7C8-4016-9E13-AE86FCB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409F-E72E-4B66-9213-A42C6F2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BD2B-2699-4760-9CC4-F25A65F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267E-62B2-4F64-AFD8-B1C1433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7C0D-F37C-40B6-8F3B-619D36A5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C254-94AC-456F-9661-ADAF8A9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CE27-F262-4740-A01D-75500D0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C41C-9190-4C60-ABFE-8D967ED5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44DFE-9635-4CDA-90A6-5C4B9F84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FF132-C5A2-4B20-BDAC-DB3918E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542-218D-416F-882F-6F7559C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BD49-22C5-4181-AE17-1E0CED19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81C9-C68A-430E-B1F8-11D3261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6FA99-90FF-4D33-BFB6-11FF407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8981-6F5E-4B10-A596-8E5DD76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468D-D1DB-439B-878B-BF42364B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3075-6CE8-4F88-A944-D4DC3C2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B1D86-596A-4E11-B1EB-6A81AC21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6308D-8B1D-4F5E-9CD2-5D7B5871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1E37-4203-4FC5-A8FC-9F29589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FDDA2-E8D4-47A2-AB5E-0E2FB97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18D5-718F-4274-BF8E-8BB8EC11F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5BF-DC34-4C0D-929C-CF3812B45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168-63F4-40AE-8B73-19F417E2F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E24-9783-45BC-9C2A-F61CBAB3C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94C-FC5C-4369-85A0-F7411B636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8C3-B5A0-4F64-8249-1311741A4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B12-6895-4A50-ACF1-3CB24284E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AA56-DE04-467C-B4C2-F3DE35457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FC5B-18A1-4703-91B7-A48E65153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68D-6799-4F16-88F0-FC5AFDAFF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55E4-7489-40D6-B91F-C9A2E703F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7B1-0CAD-47AA-A005-813C3F89C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6BE4-87A5-4D29-A112-6F5BDA001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66B-3462-4456-8CE8-B2762478B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8EA7-039F-45C3-92BA-6655C70FD8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BCF-B4A1-4D2E-A2D8-AB4B81FBE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86A-751F-4E0E-A4A9-EDBE6A6C1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A4B-F6CC-4F5C-9E79-D13012BDC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6DB5-E3CE-4E82-92EB-DFBC1D8FD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4E4-8C0F-468E-9259-FB00CD290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ACD-8A94-485F-B8D9-0E0B54F0E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F4B-46F1-407E-8D44-294102E61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AAD-6160-47B4-B39B-0F2A33CC9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95A-2A8C-4858-89F8-7732B2C4E6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C20F-A419-4560-994C-EC76448355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7004-0DD0-4565-BEF7-FCF457A5F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42E-34BB-4903-910F-A46D3B27D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D11-D709-4214-ADA1-73EA80F63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E157-D5EC-4DE3-9435-7AEB74A7F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441-0ED2-4339-BB7E-2948DDF34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7231-AFBE-48DC-8FFC-E4C078890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224E-4AC8-44E0-9F73-A552E8537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93D5-D218-454C-91E8-6D800360F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2C7-9554-46EE-AA2A-2B46CB10A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B39-08CD-43E8-8CBC-25956A4EC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8D9E-3ACD-4160-A38D-A428A6C1A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75FF-2B74-4B80-B110-A95F44FFB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318C-A5DD-408C-A52B-FB1931D7F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66C-2EF2-474E-9E7B-5BAB6ABC5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BD9-8964-4175-A1CE-090D89CAF6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066680" y="2557440"/>
            <a:ext cx="7010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1300320"/>
            <a:ext cx="8886960" cy="4257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11280" y="324180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94400" y="283860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380360" y="325584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014480" y="48261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000080" y="524340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417680" y="4106880"/>
            <a:ext cx="3603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570040" y="481176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556000" y="52293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973240" y="4092480"/>
            <a:ext cx="36036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2598840" y="44942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240080" y="4809960"/>
            <a:ext cx="64800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226040" y="522756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43280" y="4091040"/>
            <a:ext cx="3603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268880" y="449280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5824440" y="48261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810400" y="524340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6227640" y="4106880"/>
            <a:ext cx="3603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853240" y="45086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985160" y="4498920"/>
            <a:ext cx="258840" cy="22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000920" y="4695840"/>
            <a:ext cx="258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285840" y="449280"/>
            <a:ext cx="8572320" cy="62197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2455920" y="126828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52276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459480" y="126828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348000" y="333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3348000" y="3851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2916360" y="3851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9"/>
          <a:stretch/>
        </p:blipFill>
        <p:spPr>
          <a:xfrm>
            <a:off x="3348000" y="4330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0"/>
          <a:stretch/>
        </p:blipFill>
        <p:spPr>
          <a:xfrm>
            <a:off x="2916360" y="4330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1"/>
          <a:stretch/>
        </p:blipFill>
        <p:spPr>
          <a:xfrm>
            <a:off x="6962760" y="3348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2"/>
          <a:stretch/>
        </p:blipFill>
        <p:spPr>
          <a:xfrm>
            <a:off x="6516720" y="3348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3"/>
          <a:stretch/>
        </p:blipFill>
        <p:spPr>
          <a:xfrm>
            <a:off x="6962760" y="3851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4"/>
          <a:stretch/>
        </p:blipFill>
        <p:spPr>
          <a:xfrm>
            <a:off x="6962760" y="4340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5"/>
          <a:stretch/>
        </p:blipFill>
        <p:spPr>
          <a:xfrm>
            <a:off x="6516720" y="4340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6"/>
          <a:stretch/>
        </p:blipFill>
        <p:spPr>
          <a:xfrm>
            <a:off x="611280" y="515772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7"/>
          <a:stretch/>
        </p:blipFill>
        <p:spPr>
          <a:xfrm>
            <a:off x="611280" y="5487840"/>
            <a:ext cx="2089080" cy="605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8"/>
          <a:stretch/>
        </p:blipFill>
        <p:spPr>
          <a:xfrm>
            <a:off x="8431200" y="3716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9"/>
          <a:stretch/>
        </p:blipFill>
        <p:spPr>
          <a:xfrm>
            <a:off x="8359920" y="4076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0"/>
          <a:stretch/>
        </p:blipFill>
        <p:spPr>
          <a:xfrm>
            <a:off x="8431200" y="4465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1"/>
          <a:stretch/>
        </p:blipFill>
        <p:spPr>
          <a:xfrm>
            <a:off x="8532720" y="4840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2"/>
          <a:stretch/>
        </p:blipFill>
        <p:spPr>
          <a:xfrm>
            <a:off x="8402760" y="52293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3"/>
          <a:stretch/>
        </p:blipFill>
        <p:spPr>
          <a:xfrm>
            <a:off x="8431200" y="55897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4"/>
          <a:stretch/>
        </p:blipFill>
        <p:spPr>
          <a:xfrm>
            <a:off x="8431200" y="5950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5"/>
          <a:stretch/>
        </p:blipFill>
        <p:spPr>
          <a:xfrm>
            <a:off x="8532720" y="635148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2:0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